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8322-44D2-4B75-99B0-E105FA513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5EC23-0A6A-48B5-8802-BF0A5EABD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02EA5-2BA3-4E05-BC04-4F4217BF3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171D1-DA96-4A8B-8E9B-467B86E3B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0C1C7-4845-4F27-BCAD-998B403F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23249-000B-4153-A483-7765E527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3F4A9-1555-42E0-A98C-73C293033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A2AA-94E8-4B3F-92BC-DC3D1D47E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69A7-3446-4CD5-A044-758524054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66CD-55B7-43CA-9559-EBE064DEE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7922-CD88-4626-8DD8-107E7757D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A1FA-C62D-44E2-8091-2DA8508D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E41AC-30E7-498A-8B71-E5781E3C3C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Las salinas del mar men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4292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5157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332000" y="981000"/>
            <a:ext cx="635004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¡Los flamenquillo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468360" y="2286000"/>
            <a:ext cx="8207280" cy="38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¡¡Se aburriam y se estaban bañando y hacia frio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900000" y="2538360"/>
            <a:ext cx="7201080" cy="355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¡Esto si que mola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127080" y="1268280"/>
            <a:ext cx="8889840" cy="549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o es un camin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2133720" y="1795320"/>
            <a:ext cx="4876560" cy="422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so no se lo que es pero que chulo no¿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971640" y="2000160"/>
            <a:ext cx="734544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o es todo amig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Director: Pab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Cámara: Pab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Realizador: Pablo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333399"/>
                </a:solidFill>
                <a:latin typeface="Arial"/>
              </a:rPr>
              <a:t>Fin: ya está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8T21:58:25Z</dcterms:created>
  <dc:creator>Pablo</dc:creator>
  <dc:description/>
  <dc:language>en-US</dc:language>
  <cp:lastModifiedBy>Pablo</cp:lastModifiedBy>
  <dcterms:modified xsi:type="dcterms:W3CDTF">2006-04-08T21:58:25Z</dcterms:modified>
  <cp:revision>1</cp:revision>
  <dc:subject/>
  <dc:title>Las salinas del mar menor</dc:title>
</cp:coreProperties>
</file>